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3B0C3-FD9A-41DF-A96D-EB7863D5F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27CB2-67BE-459D-93F7-3FAB6DA35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296B7-14DE-40A6-890F-3D885B461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D5701-FC13-4319-91FD-33E09EE17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E14CF-4A9D-4911-B5D1-CF3494E94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29F2E-705B-45B6-A89B-39B4FF84D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BC321-9E77-4948-A430-3013BE162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8A0DB-97D0-49F5-A1B5-4F9E9F6FE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F3F35-6AA3-474A-86BF-69003212C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EDE9C-E1AE-4D9D-99CF-C513ED879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CDDCF-AD00-47EA-B0AA-31A313DED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388DC-A6C6-496E-8BEC-B3833F429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EBB4-21E8-440C-9EAA-36221891AC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AFT 6  - 28 JAN 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59080"/>
            <a:ext cx="84582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İSMAİL YAN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TEB YÖNETİM KURULU ÜYES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iyanik@teb.com.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28195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"/>
              </a:rPr>
              <a:t>13 NİSA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43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E95B5-DF3F-4D5D-AB57-F1C6A2D9D03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Operasyonel risk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 içi kontrollerdeki aksamalar sonucu hata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sulsüzlükler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özden k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 yönetimi ve personel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af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man ve k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llara uygu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reket edilememesinden, bank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önetimindek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lardan, bilgi teknolojis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lerindeki hata ve aksa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deprem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, sel gibi felaketlerd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naklanabilecek k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 d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üreçlerinde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hata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in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sonuna -de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rçek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irilmesind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ihai tak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uçla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- kadar her 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ma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üreçt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, noksan veya kaç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ucu 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k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 risk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Bilgi sistemlerinde hata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eknoloji veya y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 seçimi , siste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irme ve uygulam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ç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hardware, software, network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yüz uygula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baş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t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naklanabilecek zar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İnsandan kaynaklanan riskler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la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, personel suistimali, personel hat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etkisiz faaliyet, onay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 ve personel yetersiz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veya kil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ersonel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cak zarar 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Do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l afet ve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dı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faktörlerden kaynaklanan riskler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prem, y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,sel gib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fetler ile ilet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, u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ım ve enerji alt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an sorunla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deniyle zarar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u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427D2-7A4C-4F9F-B3DE-29FAB243D1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2860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Düzenlemelere uyulmama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Mevzuat hükümlerine ve kanunlar ile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üzenleme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kümlülüklere,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 iç mevzuat hükümlerine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luslarar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abul görmü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urallara uyul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sonucu ortay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 resm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rciler taraf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verilen faiz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me cez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iş koluna getirilen yasak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lamalar ile zorunlu düzeltme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in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liyeti nedeni ile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Mevzuata ilişkin yetersiz bilgi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 tarafından yetersiz ya da yan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lgi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lgeye dayanarak yapılabilecek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 neticesinde ha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klenenden d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k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klerin ise beklenenin üzerin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rçek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Vergi riski 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rgi mevzu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 ay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 veya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 bilonço pozisyonunda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resmi mercilerce talep edilebilecek ek vergi ve vergi cez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İtibar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Faaliyetlerindeki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 ya da mevcut yasal düzenlemeler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ygu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v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ticesinde bankaya duyulan güvenin azal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tib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zedelenmes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orta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 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Yasal risk ve yükümlülük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ca taraf olunan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lerde eksi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da hat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etersiz hükümler ve uygulama usulleri bulun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afa yasal olar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p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da bulunul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ya üçüncü 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rin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an taleplerinde yeterli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ya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bulunamaması nedeniyle zarara uğram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A350A-E12B-49F8-B034-75FCB30937B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Güvenlik riski :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zaen veya k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ir eylem sonucu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sahip olduğu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lginin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gizlilik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ütünlük ve 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uluk veya kull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l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bilir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in yitirilmes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psayan bilgi sistemleri ve fizikse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üvenlik riski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70288-51BA-432B-BED9-3CF7B489BA4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00200" y="220968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27160" y="179388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27016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Times New Roman"/>
              </a:rPr>
              <a:t>RİSK YÖNETİM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Times New Roman"/>
              </a:rPr>
              <a:t>TEMEL İLKE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5A1B8-E217-4F18-AA4E-687CFE3F859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709640"/>
            <a:ext cx="77724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 u="sng">
                <a:solidFill>
                  <a:srgbClr val="ffffff"/>
                </a:solidFill>
                <a:uFillTx/>
                <a:latin typeface="Arial"/>
              </a:rPr>
              <a:t>KURUMU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trateji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Politikalar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Yönetim Kültürü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üm çalışanlarca bilinmeli ve benimsenmelid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0"/>
            <a:ext cx="510552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08AD-D045-4CD3-A71B-452E34030F2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701720"/>
            <a:ext cx="777240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ffffff"/>
                </a:solidFill>
                <a:latin typeface="Arial"/>
              </a:rPr>
              <a:t>Yönetimin 1’nci sorumluluğu kurumun riskini yönetecek kişileri eğitmek, geliştirmek, yönlendirmek ve desteklemekti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0"/>
            <a:ext cx="510552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F2BA0-53D4-4481-8A69-CBA30F8A0F9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52480" y="3276720"/>
            <a:ext cx="4819680" cy="2476080"/>
            <a:chOff x="1752480" y="3276720"/>
            <a:chExt cx="4819680" cy="2476080"/>
          </a:xfrm>
        </p:grpSpPr>
        <p:sp>
          <p:nvSpPr>
            <p:cNvPr id="139" name=""/>
            <p:cNvSpPr/>
            <p:nvPr/>
          </p:nvSpPr>
          <p:spPr>
            <a:xfrm>
              <a:off x="2912400" y="3782160"/>
              <a:ext cx="2483640" cy="151776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52480" y="5247360"/>
              <a:ext cx="1427400" cy="505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48440" y="3276720"/>
              <a:ext cx="1427400" cy="5054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4760" y="5247360"/>
              <a:ext cx="1427400" cy="5054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733920" y="32767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3300"/>
                </a:solidFill>
                <a:latin typeface="Times New Roman"/>
              </a:rPr>
              <a:t>Pazarlama / Haz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53341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Operasy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5334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3300"/>
                </a:solidFill>
                <a:latin typeface="Times New Roman"/>
              </a:rPr>
              <a:t>K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79291-CB66-4036-8ECB-88FAC1BAF4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14040" y="24382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733920"/>
            <a:ext cx="1904760" cy="13716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iyat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3581280"/>
            <a:ext cx="2438640" cy="15242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Değerl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44956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39915-2CA7-420C-A8E0-E5F7A9A972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2666880"/>
            <a:ext cx="1904760" cy="13716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icari Portfö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2514600"/>
            <a:ext cx="2438640" cy="1523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Yatırı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Portföy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34290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419360" y="31240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3434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Piyasa fiyatına göre değerleme  (MT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5228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5195A-0366-4CB6-BA57-FEA90F0427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17938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Müşteri segmen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Sektör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Bölge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22860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İN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AĞITILM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FA892-1F76-488C-BADB-C2F9235E03D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362320"/>
            <a:ext cx="8763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BANKAMIZIN HEDEF ve AMAÇLARINA ULAŞMASINI ETKİLEYEN HER TÜRLÜ UNS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9E100-18E3-4B68-93EF-014BB672558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2130480"/>
            <a:ext cx="77724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Kredi / Karşı taraf risk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Ülke / Bölge / Sektör limi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Gap Limitleri (Faiz risk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Likidite rasyo limi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0492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ffffff"/>
                </a:solidFill>
                <a:latin typeface="Arial"/>
              </a:rPr>
              <a:t>RİSKİN 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ffffff"/>
                </a:solidFill>
                <a:latin typeface="Arial"/>
              </a:rPr>
              <a:t>LİMİTLENMES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E93F7-4B70-4453-9052-92921C02A41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304920"/>
            <a:ext cx="60958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609480"/>
            <a:ext cx="77724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arif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Hedef müşt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sk / kontrol noktalar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sk / Geti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Operasyo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Muhasebe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48440" y="433440"/>
            <a:ext cx="58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ÜRÜN EL KİTAPL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A1030-977B-4824-BB29-01C0C831540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2046240"/>
            <a:ext cx="853416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DÜRÜSTLÜ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Aklımızı kullanarak hareket etme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Risk alanların tecrübe ile gelişen yeteneğ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ÜÇ ANA UNS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18469-C281-4F38-861A-3D076307C7F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362320" y="152280"/>
            <a:ext cx="4343400" cy="16002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Telefon             Teleks              Re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ilgisayar teknolojilerinin gelişmesi sonucu hesaplama          ve bilgiye ulaşma maliyetlerinin ucuzla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1978            $ 500        M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  ---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2209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2209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ABD9C-B026-4307-A819-8CA0CE64C4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2120" y="2438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1984  Reuters  Green Monitor   $ 500/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ha fazla bilgi                          $  50/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25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257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22860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FBD3-3F01-4699-AE0D-98D998C9C7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66680" y="1904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Internet/Intranet’in yayı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Riski oluşturan bilgilerin konsolidasy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İşlem dat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Kur/faiz dat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Diğer piyasa veri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Müşteri bilgi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22860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A5676-3983-46AE-8451-4AF9F72573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762120" y="2590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ylık             Haftalık            Günlük           Real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0492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DC64F-BB32-414E-9BCA-C27AEE744B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66680" y="22093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Para Piyasalar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Hazine bonosunun ilk defa repolanması (198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bilançolarında yoğunlaş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9900"/>
                </a:solidFill>
                <a:latin typeface="Arial"/>
              </a:rPr>
              <a:t>Hazine Bono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9900"/>
                </a:solidFill>
                <a:latin typeface="Arial"/>
              </a:rPr>
              <a:t>Eurob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Yabancı piyasaların ilgisi/etk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304920"/>
            <a:ext cx="4343400" cy="121896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ÜRKİY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PİYAS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34E0-EE9B-4A29-971B-11642EE627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Capital Accor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Amendment to the Capital Accor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Nisan 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ankaların İç Denetim ve Ris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önetimi Sistemleri Hakkında Yönetmel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ankaların Sermaye Yeterliliğinin Ölçülmes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ve Değerlendirilmesine İlişkin Yönetmel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2002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152280"/>
            <a:ext cx="48006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KANUN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ÜZENLE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D1C1B-6D0A-4389-B73E-96F1B4273A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43208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DDK tarafından yayımlanan 8 Şubat 2001 tarihli “Bankaların İç Denetim ve Risk  Yönetimi Sistemleri Hakkındaki Yönetmelik Bankalarda aşağıda belirtilen alanlarda değişiklik yara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476520"/>
            <a:ext cx="4953240" cy="18288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7160" y="333864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Yönetim Kuruluna İlave Sorumlul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267080"/>
            <a:ext cx="20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Kuvvetler Ayrılığı İlkesinin Daha Etkin Uygulan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33412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Sermaye Yeterliliği Hesapla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4100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Piyasa ve Kredi Riski Yöneti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36840" y="28954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Organizasyon Yapısında Değişikl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46880" y="297180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Daha Etkin İç Kontrol Sist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3733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İlave Raporlama ve Bildirim Yükümlülüğ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9338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Banka Risklilik Düzeyinin Belirlenmesi, Bankanın Temel İşlevsel Faaliyet Alanlarının Özel Kontrol Ve İncelemel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0"/>
            <a:ext cx="58672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DDK TALEP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F700F-54C4-4DD8-B308-4EE02429948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2743200"/>
            <a:ext cx="1904760" cy="1828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üşteril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veri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iz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2743200"/>
            <a:ext cx="198144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öneti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276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276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2743200"/>
            <a:ext cx="2133360" cy="17524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şarıl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nkacılı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D0CE-F9CB-4D97-942A-9C506ADD52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politikalarının oluşturulmas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Faaliyetlerin risklilik düzeyinin değerlendirilm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cil ve beklenmedik durum planı uygulamas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Piyasa riskinini ölçülmesi (Standart metod yada VaR) (1.1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anka iştiraklerinin risk yönetiminde dikkate alınması (1.7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QIS-TR  (28.02.200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228600"/>
            <a:ext cx="58672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2860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DDK TALEP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0C56F-1900-430A-965C-414B84110C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Hazine  pozisyonlarından (trading book) bir günlük elde tutma süresi ve belli bir güven aralığında - %99 – olasılıkla kaybedilecek en yüksek tutar (TL veya US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45720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95016-61E9-4095-AC4B-57C4C5BBB8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Risk Yönetim Arac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Yönetimini, Resmi Otoriteyi ve Piyasayı Bilg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Sermaye Yeterliliği Hesapla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Performans Ölçü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Limit Tahsis / İzl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45720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0B7B9-E031-41AE-9169-943ED8BA5C1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Varsayımsal veya gerçekleşmiş olay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–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olağanüstü fiyat değişiklik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portföyüne uygun senary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eprem - Kasım - Şubat - Irak kriz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Olay ve parametre seçi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Öngörü ve tecrü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304920"/>
            <a:ext cx="487692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30492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tres Test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enaryo Analiz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98601-3ECA-428F-B337-793D6B235B3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447560" y="2514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iz oranlarına paralel-non paralel şok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ur şoklar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urasyon – gap analiz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2860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0492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UYARLILIK  DURASY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7606E-912F-4789-9522-9CDD90DCD7F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iştah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politikalar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cc66"/>
                </a:solidFill>
                <a:latin typeface="Arial"/>
              </a:rPr>
              <a:t>İhtiyaçlar önceden tespit edilme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ritik nokta/seviy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ritik ürün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ilanço hassasiye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7F6C0-706B-4063-B688-A77A18694BE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66"/>
                </a:solidFill>
                <a:latin typeface="Arial"/>
              </a:rPr>
              <a:t>İnsana yatırım önceliğ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161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Bilinçlendir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7161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Eğiti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380880"/>
            <a:ext cx="4343400" cy="121932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53717-2AF6-4A00-9B61-970A097BE84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21896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66"/>
                </a:solidFill>
                <a:latin typeface="Arial"/>
              </a:rPr>
              <a:t>Bilgi İşlem Altyapı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etaylı Anal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Risk Yönetimi          Hazırlık          Data topl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41911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41911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D749F-4C07-4A38-B9F5-3D32E647EC3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990720" y="2514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Lokal destek sağlanmal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Türk piyasalarının özelliklerine (Volatilite, veri eksikliği v.b.) uygun sentez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now-how kurum içinde içselleştirilme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F4B35-6629-4CA2-AA7C-C0371FD487B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Risk Yöneticisinin rol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İcraya karışacak mı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Sadece karar desteğ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Yurtdışı örnekl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BDD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38088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22BFE-0FB3-418C-9EBD-7C90C483A4E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K, kurumlarında etkin bir Risk Yönetimi olduğundan emin olmak i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9900"/>
                </a:solidFill>
                <a:latin typeface="Arial"/>
              </a:rPr>
              <a:t>NEDEN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urumlar değişir (kişiler ve yapı olarak) bu değişim geleneksel kontrollerin değişmesine genellikle atlanmasına sebep ol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eni teknoloji beraberinde yeni riskler getir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lemler giderek daha karmaşık yapılar içerir     (türev ürünler, structu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asıtlı hata veya ihmal bir çok kurum için hala problem teşkil edi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Stratejik hata maliyetleri arttırı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ontrol aksaklıkları kurumu önemli derecede etk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380880"/>
            <a:ext cx="64008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8088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YK – RY BAKIŞ AÇI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F1D7-3F52-41F8-8180-11E15A0C1E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Yönetiminin önemi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Üst Yönetimin bilgilendirilmesi/bilinçlendirilm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Standart Met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Yeterli m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Doğru data (Garbage in / Garbage O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oğru çözüm her zaman pahalı değild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lack Box çözüm yokt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u bir yaşam biçimid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60948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60948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ONU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7200" y="586728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L II YAKI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FEB65-3A35-4FDE-9382-8DD535657A6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218960" y="2819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4 Orange County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Structured Securities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1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5 Barings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Nikkei  Futures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1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6 Sumitomo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        Yetkisiz Pozisyon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2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2002 Allied Irish 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Currency Options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0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57200"/>
            <a:ext cx="51814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38088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ÜYÜK KAYIP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6C903-B873-4EDB-A8D1-B2AD0BA128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00200" y="220968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27160" y="179388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91120" y="2511360"/>
            <a:ext cx="618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Arial"/>
              </a:rPr>
              <a:t>RİSK YÖNETİM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Arial"/>
              </a:rPr>
              <a:t>TEMEL RİSK TANIMLA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13804-A3BC-46CC-9293-FA169F87EEA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094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trateji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Seçilen uygulama ve kararlara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,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olu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tr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nelinde meydana gelen dönemsel 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ler veya teknoloji 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le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ticesin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rta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redi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 m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erisinin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 gereklerine uymayara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men veya tamamen 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erine getirememesinden dol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tı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urum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istemik risk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nansal sistemdeki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dan kaynaklanabilece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m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lerine i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in 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aksak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u aksaklıkları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nansal sistem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stikr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zerindeki etkilerinden kaynaklanan 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Ülk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luslarar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redi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inde, krediyi alan 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ya da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aaliyette bulunduğ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lkenin ekonomik, sosyal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k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 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me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tamam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erine getirilememesi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659D0-3C3A-4D06-8C86-9AC3110F090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53352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emin sonuçland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amamas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araftan, umulan süred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onu finansal ara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da fonu (nakdi) teslim al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eld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dememesi durumun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emin sonuçland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ma öncesi olu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n risk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mi yapan taraflardan birinin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üresi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de,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deki 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 yerine getiremeyec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ğ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urum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Transfer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rediyi alan kişi ya da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bulund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 ülkenin ekonom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rum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 mevzu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döviz borcunun ay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ürde veya konvertib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r döviz ile ge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nememe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Faiz oran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Faiz oranlarındaki hareketler nedeniyle 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pozisyo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urumu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maruz kalabilec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zarar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59CAB-AAE8-4EE2-B941-688DE8DECE9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55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ikidit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nakit 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ki dengesizlik sonucunda nak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çık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am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ar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 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yacak düzeyde ve nitelikte nak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vcudu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kit gi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e sahi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ulun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iyasaya ili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in likidite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piyasaya gerekt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gibi girememesi, ba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ünlerdeki 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piyasa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 piyasalard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geller ve bölünmele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deniyl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zisyon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ygun bir fiyatta, yeterli tutarlarda ve h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pat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pozisyonlardan çık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urumunda ortaya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n zara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Fonlamaya ili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in likidit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akit gi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ki düzensizlikler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adey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akit 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yumsuzlu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onlama 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 maku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r maliye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potansiyel olarak yerine getirememe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iyasa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ilanço içi ve bilanço 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esaplarda bankalarca tutula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zisyonlarda finansal piyasada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lgalanmalardan kaynaklan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aiz, kur ve hiss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nedi fiy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lerine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ortaya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n faiz o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iski, hiss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ned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zisyon riski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ur riski gibi riskler nedeniyle zarar etm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292E0-2FD8-40A5-9CC1-2C314BD014A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19:07:35Z</dcterms:created>
  <dc:creator>Robert Fleming &amp; Co Limited</dc:creator>
  <dc:description/>
  <dc:language>en-US</dc:language>
  <cp:lastModifiedBy>krandaa</cp:lastModifiedBy>
  <cp:lastPrinted>2000-01-26T21:41:00Z</cp:lastPrinted>
  <dcterms:modified xsi:type="dcterms:W3CDTF">2004-04-26T14:07:19Z</dcterms:modified>
  <cp:revision>438</cp:revision>
  <dc:subject/>
  <dc:title>No Slide Title</dc:title>
</cp:coreProperties>
</file>